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3A59-D6F1-4B00-BA0A-511A74794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326F-F50A-4026-94EF-0B3EFBEE2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209-AD11-414B-9D38-DB0F73830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FF57-D693-42C4-8D2A-AE98D2D53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2F9B-DF0A-4B76-8DCA-CFB4B92EC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9BF1-9D5E-4CBC-B5A6-2F7C0689BC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DFD2-D5B7-462B-A38A-55E67A14D8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85EE-2210-4D14-A5E4-1725A45442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675D-1A68-4323-B480-259437FDF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9C39-D4DC-40E9-AF90-1E727AE30F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AEA7-8CAB-428F-BA53-595FFB287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ABF0-3DD5-4F01-9B06-7724B3FB1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B12E-C446-4FC4-8276-B01C5B0892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4524-D7DE-4110-9E36-D8B62D9D70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5A22-69BD-418C-A208-E74100F195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C0EE-3320-4801-BDBF-0E7887A08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BE72-0FA6-411B-8BD1-C40DB3138E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CD6-D022-456D-A878-CE72AFEC1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FDF-C400-49C7-8804-99F9F5256E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16F-A600-432F-97A2-1EE963FA1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FDF-5179-44D9-A5C1-E662750288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E69-EF8B-4CC5-A853-ADEBE3408D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8C9C-8B9C-485A-ADC3-BEED6F8A46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3D5-A4F8-4751-BFFA-ADA6057651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148-9C0F-49E5-A10D-09DC32657A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810-F51E-4F18-8E0D-2DB128C31D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8A1-A17F-4E91-B0F0-4B82163B4D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86D-F5B1-497F-94DA-FE219D2664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7C9-47D0-4CC4-9F21-F293BB675C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DC8-2250-491A-982A-5CC88CCA3E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9628A-2749-4D05-B135-96A3A5CAA3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63201-016F-4E85-B3C5-44CA567B98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E1C4-7A07-4810-A626-AAF906B1C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1CBD-4DD9-4928-A8E7-A070329A0A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16476-E2B4-4AA0-984B-6E53070EF5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F5C90-9C33-4928-AE3D-87E6D6B081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39969-DE11-46F8-9EC2-D2E309F71A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4CEED-11FD-42A9-B904-38D94E432E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A9CD3-E95B-4E55-B849-5250927DE6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7B197-633C-48C4-942A-40D259A576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B223B-B405-4A30-AB53-E8403092A7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52DA4-9286-4162-B5DD-AE8117ABC1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416C-B600-4C1F-BEA5-61B9FF4B06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5ABC2-14B3-4617-843B-9285F0CB5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646D-5759-4E08-B3CC-706BF8789A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AE815-ECD2-4AC9-9DA9-20D5A98A37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C274-1298-4CF7-ADDC-072B95B817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CC515-4B69-4B0D-8DAF-E5DD7D4C90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DE70B-CC9D-4BF3-95A9-C36C600FD6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066F8-591E-4161-ABFC-F3D29FFE03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47FFC-CA1A-4933-80F4-E932EBB5A4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2D107-949F-49A7-ADCB-941F25B4C6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AC562-53BB-476D-A742-0DD2F51375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7A64A-009D-42E5-B461-19CDE6FB9B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6395-7859-4378-9EC9-5B7708993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5BBA-6647-4486-A026-9379D618BE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2188-529E-4E53-9B7C-B3117F10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9223-CD02-4C9B-9920-BC6976243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37A-E6CE-420F-9730-5AC5E65F7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047B-AF41-4EC8-99E7-52E14B685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0724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795240" indent="-16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24640" indent="-164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8C7-05A4-40E1-A3FD-73E51D53FF3E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FA0-BAA1-4FA6-9578-EFCEE7D1DCB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BBFF-61CC-478E-92A7-288C7F7C6E68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4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FA0E-C3C4-4830-9A64-379EFF277FF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5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41A-AB28-4712-8449-3341F0EF7CE0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ll Ringer 10-29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8760"/>
            <a:ext cx="73152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do you believe is the most important vocab to life in Ancient India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DC4-DBB9-4B77-8BA5-1AFC0350FCD1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99840"/>
            <a:ext cx="807732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g 7: India Ma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g 8: Geo C-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693-74D6-43C3-B091-22C282182CC5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522440"/>
            <a:ext cx="4267440" cy="49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cc"/>
                </a:solidFill>
                <a:latin typeface="Lucida Grande"/>
              </a:rPr>
              <a:t>Subcontin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. a large region separated from the rest of the continent by natural feat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he region is called a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subcontinen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because it is so large and separated by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water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from other land area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800600" y="1247760"/>
            <a:ext cx="4343400" cy="55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Himalay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171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South Asia is home to the world’s tallest mountain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he Himalaya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. The Himalayas were formed whe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smaller plate pushed up under the larger plat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he Himalayas are still ris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d. Mount Everest is its </a:t>
            </a:r>
            <a:r>
              <a:rPr b="0" lang="en-US" sz="2800" spc="-1" strike="noStrike" u="sng">
                <a:solidFill>
                  <a:srgbClr val="d90b00"/>
                </a:solidFill>
                <a:uFillTx/>
                <a:latin typeface="Lucida Grande"/>
              </a:rPr>
              <a:t>highest peak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540160" y="46227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South Asia Landform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Eight Countries make up South Asia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. Indi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i. Pakis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ii. Nep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v. Bhu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. Afghanis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. Banglades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i. Sri Lank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ii. Maldives Islan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006880" y="2362320"/>
            <a:ext cx="413244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South Asia Landforms cont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1760" y="1869840"/>
            <a:ext cx="4038480" cy="44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These countries have differ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 landform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he </a:t>
            </a:r>
            <a:r>
              <a:rPr b="1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Hindu Kush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mountains are in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northwes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and the </a:t>
            </a:r>
            <a:r>
              <a:rPr b="1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Himalaya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are in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northeas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. These mountain ranges separate South Asia from the rest of the contine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192560" y="1905120"/>
            <a:ext cx="49640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The </a:t>
            </a:r>
            <a:r>
              <a:rPr b="0" lang="en-US" sz="2800" spc="-1" strike="noStrike" u="sng">
                <a:solidFill>
                  <a:srgbClr val="ff2712"/>
                </a:solidFill>
                <a:uFillTx/>
                <a:latin typeface="Lucida Grande"/>
              </a:rPr>
              <a:t>Indus, Ganges,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 and </a:t>
            </a:r>
            <a:r>
              <a:rPr b="0" lang="en-US" sz="2800" spc="-1" strike="noStrike" u="sng">
                <a:solidFill>
                  <a:srgbClr val="ff2712"/>
                </a:solidFill>
                <a:uFillTx/>
                <a:latin typeface="Lucida Grande"/>
              </a:rPr>
              <a:t>Brahmaputr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. The rivers fan out across a flat plain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Indo-Gange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Plain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. Monsoon season rains 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flooding,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which spreads out m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sil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to the field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311472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fe"/>
                </a:solidFill>
                <a:latin typeface="Lucida Grande"/>
              </a:rPr>
              <a:t>Indus River Vall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61840"/>
            <a:ext cx="4038480" cy="515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Much of the population in South Asia lives in crowded farming villages on the </a:t>
            </a: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ndo-Ganges Pla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The Indus River Valley is on a plai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Pakista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It is the site of the world’s </a:t>
            </a: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oldest civilizatio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4038840" cy="515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na</dc:creator>
  <dc:description/>
  <cp:keywords/>
  <dc:language>en-US</dc:language>
  <cp:lastModifiedBy>Tyler Daughtry</cp:lastModifiedBy>
  <dcterms:modified xsi:type="dcterms:W3CDTF">2013-10-29T13:58:26Z</dcterms:modified>
  <cp:revision>3</cp:revision>
  <dc:subject/>
  <dc:title>Chapter 5: Ancient India</dc:title>
</cp:coreProperties>
</file>